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wmf" ContentType="image/x-wmf"/>
  <Override PartName="/ppt/media/image3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2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3FE-9257-4555-B3F7-6605DA98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1E3E-4896-42B6-AF1F-B103CC84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40F-F180-4464-8FD5-4055BCD8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DD7-927D-4544-BCE8-1B5C88CA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7DE2-3F52-4E98-ABDD-B0567247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9848-AF77-4E17-86DF-18DC5A9C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B51A-446B-4498-9C87-4B6157A8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E226-8B24-4D02-B074-07EFA3A9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D468-1009-43EC-91A4-67DBEDF1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707A-CD82-4697-B04D-9436D1A0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574B-DA69-4EDE-9611-50A3B47E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521-A7D2-4AB8-8546-06713CF0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593D-4E9B-4B20-9CD0-E183FC3D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A6FA-E18E-4036-94B8-7A1A5FD6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29E9-1311-4527-892C-978B51BA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BB3F-AAB6-418D-9B78-B2437BEE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C72D-9BFD-4B75-A478-462D24E6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D468-84D1-43D5-A7B7-20DD3E0F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A1F-5C67-40A7-97BE-D572B633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5EC-1CD4-42C3-9268-777C7869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952-46D1-4372-8BF2-00A71B0A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07F-E8DF-437A-A590-04353283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132-4793-4145-9C7D-E537D20C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346-F22F-48F6-AA01-89314153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D62C-7F9B-4A0C-B647-1233005DF78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229F-FD50-484F-9265-0FDC3D2AF5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watermarkingworld.org/" TargetMode="External"/><Relationship Id="rId2" Type="http://schemas.openxmlformats.org/officeDocument/2006/relationships/hyperlink" Target="http://www.watermarkingworld.org/" TargetMode="External"/><Relationship Id="rId3" Type="http://schemas.openxmlformats.org/officeDocument/2006/relationships/hyperlink" Target="http://www.watermarkingworld.org/" TargetMode="External"/><Relationship Id="rId4" Type="http://schemas.openxmlformats.org/officeDocument/2006/relationships/hyperlink" Target="http://www.mathworks.com/matlabcentral/fileexchange/loadFile.do?objectId=3508&amp;objectType=FILE" TargetMode="External"/><Relationship Id="rId5" Type="http://schemas.openxmlformats.org/officeDocument/2006/relationships/hyperlink" Target="http://www.mathworks.com/matlabcentral/fileexchange/loadFile.do?objectId=3508&amp;objectType=FILE" TargetMode="External"/><Relationship Id="rId6" Type="http://schemas.openxmlformats.org/officeDocument/2006/relationships/hyperlink" Target="http://www.cerias.purdue.edu/news_and_events/events/symposium/2001/posters/post_46.pdf" TargetMode="External"/><Relationship Id="rId7" Type="http://schemas.openxmlformats.org/officeDocument/2006/relationships/hyperlink" Target="http://www.engineering.ucsb.edu/~bruvold/ece178/report/team6report.html" TargetMode="External"/><Relationship Id="rId8" Type="http://schemas.openxmlformats.org/officeDocument/2006/relationships/hyperlink" Target="http://www.seas.upenn.edu/~pranav/Digital_Watermarking.htm" TargetMode="External"/><Relationship Id="rId9" Type="http://schemas.openxmlformats.org/officeDocument/2006/relationships/hyperlink" Target="http://www.seas.upenn.edu/~pranav/Digital_Watermarking.htm" TargetMode="External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IGITAL WATERMARK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S ALBERTO FAQ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N VAN NGUY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ular grayscale ima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597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CT of previous ima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673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CT of previous image (enhance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7010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ast DCT coefficient chang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7820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rst Coefficient of DCT chang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8x8 DCT of Ima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597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1900" spc="-1" strike="noStrike">
                <a:solidFill>
                  <a:srgbClr val="006633"/>
                </a:solidFill>
                <a:latin typeface="Times New Roman"/>
              </a:rPr>
              <a:t>‘</a:t>
            </a:r>
            <a:r>
              <a:rPr b="0" lang="en-US" sz="1900" spc="-1" strike="noStrike">
                <a:solidFill>
                  <a:srgbClr val="006633"/>
                </a:solidFill>
                <a:latin typeface="Times New Roman"/>
              </a:rPr>
              <a:t>W’ depicts the suitable coefficients for the watermarking process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8x8 DCT Bloc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362320" y="1752480"/>
          <a:ext cx="44193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44193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CT-based approa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mage Independ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Watermark Embed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W(L+i)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(L+i) +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05120" y="2744640"/>
            <a:ext cx="5790960" cy="24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CT-based approa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mage Depend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Watermark Embed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W(L+i)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(L+i) +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k | 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(L+i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5120" y="2668680"/>
            <a:ext cx="5867280" cy="28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CT-based approa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herent De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55623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Digital Watermarki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tion: Imperceptible insertion of information (“digital fingerprint”) into multimedia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: Insertion of information (such as a number text, image..) into original multimedia data through slight modification of the dat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s of watermarking schemes (transforms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tial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quency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CT-based approa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lind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elation=E[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+i)]E[W(i)] + kE[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+i)]E[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)W(i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W, W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e zero mean and indepen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19320" y="2817720"/>
            <a:ext cx="632448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OLOR QUANTIZATION WATERMARK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99320" y="319680"/>
            <a:ext cx="814536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lor Image Watermarking Sche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by P. Tsai et al./Signal Processing 84 (2004) 95-1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s Color Quantization techn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lor Quant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4494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different details of im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r palette Design: Select representative colors of a particular im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ixel Mapping Proced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closest color from the palette to represent the pixel with minimum distor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quare Euclidean Dist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066680" y="3886200"/>
                <a:ext cx="682956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q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74200" y="345600"/>
            <a:ext cx="81482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ermark Embedding Procedur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143000"/>
          <a:ext cx="7772400" cy="48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77240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91400" y="312480"/>
            <a:ext cx="7551000" cy="6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ermark Embedding Procedur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-2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43000" y="1066680"/>
          <a:ext cx="58672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58672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ermark Extracting Procedur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the locations of entries in the color index table that contains the watermark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value of the selected index is odd: Extrac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value of the selected index is even: Extract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erimental Resul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1143000"/>
          <a:ext cx="7543800" cy="4800240"/>
        </p:xfrm>
        <a:graphic>
          <a:graphicData uri="http://schemas.openxmlformats.org/drawingml/2006/table">
            <a:tbl>
              <a:tblPr/>
              <a:tblGrid>
                <a:gridCol w="2514240"/>
                <a:gridCol w="2514960"/>
                <a:gridCol w="2514600"/>
              </a:tblGrid>
              <a:tr h="99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T IMAGES (512x5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WATER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 ( PSNR d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EEE (32x3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 (PNSR d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w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5150   55.8550   55.48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0771   51.8240   53.0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 f. harr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2700   55.7732   53.89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9945   51.3143   51.88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. Ab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.2858   59.8210   57.09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4053   56.3068   54.86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sh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9270   56.3346   56.25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5421   52.6053   54.24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3465   53.2265   52.84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5537   48.7757   52.49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tb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5258   53.5468   54.23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1665   50.9137   52.65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0" y="424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erimental Resul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2120" y="1143000"/>
          <a:ext cx="7543440" cy="4799880"/>
        </p:xfrm>
        <a:graphic>
          <a:graphicData uri="http://schemas.openxmlformats.org/drawingml/2006/table">
            <a:tbl>
              <a:tblPr/>
              <a:tblGrid>
                <a:gridCol w="2514240"/>
                <a:gridCol w="2514600"/>
                <a:gridCol w="2514600"/>
              </a:tblGrid>
              <a:tr h="99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T IMAGES (512x5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WATER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 (PSNR d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EEE (64x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 (PSNR d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w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6942   49.9373   49.64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3311   45.9639   47.29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 f. harr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6076   50.1172   48.22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8947   45.8431   46.03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. Ab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8181   54.3688   51.5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8319   50.4090   49.09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sh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4591   50.7343   50.58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5722   46.9768   48.60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9038   47.7892   47.9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1776   42.8120   47.52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tb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6945   48.2439   48.65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2605   45.4984   47.45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424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s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9040" y="1599840"/>
            <a:ext cx="7007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pyright prot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gerprin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roadcast monito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ta Authent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dex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dical saf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95720" y="343080"/>
            <a:ext cx="7161840" cy="7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erimental Resul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733920" cy="4495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35816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95720" y="316080"/>
            <a:ext cx="7161840" cy="7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erimental Resul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95360" y="316080"/>
            <a:ext cx="7543080" cy="7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erimental Resul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99320" y="319680"/>
            <a:ext cx="730728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erimental Resul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ractice, the watermark is scrambled (by DES or RSA) to provide extra protection against atta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olor palette is generated with optimal palette selection (e.g., Photosho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r palette plays an important r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CA is used to sort the color palet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8880" y="309240"/>
            <a:ext cx="816624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’s hidd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7816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8730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watermarkingworld.org</a:t>
            </a: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www.mathworks.com/matlabcentral/fileexchange/loadFile.do?objectId</a:t>
            </a: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=3508&amp;objectType=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http://www.cerias.purdue.edu/news_and_events/events/symposium/2001/posters/post_46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www.engineering.ucsb.edu/~bruvold/ece178/report/team6report.html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www.seas.upenn.edu/~pranav/Digital_Watermarkin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175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lock Diagram of Algorithm</a:t>
            </a:r>
            <a:br>
              <a:rPr sz="46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42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quirements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ceptual transparen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yload of watermar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livious and non-obliv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chniques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atial Doma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SB substit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lation based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quency Doma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T based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WT based approa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FT based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SB approa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mplest Watermarking techn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watermark is inserted into the least significant bits of the cover objec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human-perceptible differ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though easy the implement, It has several drawbac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rivatives of this method using different bi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LSB Encoding"/>
          <p:cNvPicPr/>
          <p:nvPr/>
        </p:nvPicPr>
        <p:blipFill>
          <a:blip r:embed="rId1"/>
          <a:stretch/>
        </p:blipFill>
        <p:spPr>
          <a:xfrm>
            <a:off x="2413080" y="2924280"/>
            <a:ext cx="403848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rrelation-Based Techniqu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pseudo random noise (PN) pattern W(x,y) is added to the cover image I(x,y) according to the equation 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W(x,y)=I(x,y)+k*W(x,y)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retrieve the watermark, the same PN generator is seeded with the key and the correlation between the noise pattern and the image computed. If the correlation exceeds a certain a threshold T, the watermark is said to be detected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rovements on correlation-based technique: Instead of replacing a one bit, a sequence of bits. So that the threshold decision made is not whether the bit is '0' or '1' , but rather if it is a sequence of ‘0’ or ‘1’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CT-Based Approa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8400" y="2209680"/>
            <a:ext cx="7088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CT=Discrete Cosine Transfor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asis for JPEG compres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al domain transform (as opposed to DF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CT of an image is calculated by taking 8x8 bocks of the im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fter DCT is made, the coefficients are reordered from low to high frequency as follow in a “zig-zag” fash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22:24:25Z</dcterms:created>
  <dc:creator>guitar</dc:creator>
  <dc:description/>
  <dc:language>en-US</dc:language>
  <cp:lastModifiedBy>Abut</cp:lastModifiedBy>
  <dcterms:modified xsi:type="dcterms:W3CDTF">2004-12-08T02:42:53Z</dcterms:modified>
  <cp:revision>48</cp:revision>
  <dc:subject/>
  <dc:title>What is Digital Watermarking?</dc:title>
</cp:coreProperties>
</file>