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5D7D13-73B6-4F68-8415-C52353840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xtract desired call at receiver and differentiate between rest of users since rest of them look like noise at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stic, perio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eedback shift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 EV-DV for voice and data on same carrier w/ rates up to 4.8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fide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-less phones, microwav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50 Wi-Fi hotspots to cover area of 1-mile radius cell-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hotspot business model not lucrative – even T-Mobile says revenues incon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-Wide Interoperability Microwav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nt offered for limitted mobility (walking/slow speeds) but no model available yet and skeptic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frequency causes need for many towers and high power to send signal further di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as cell-site backhaul, wifi backhaul, rural broad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attributes to 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kely what will happen since Qualcomm now owns Flarion – devloper of FLASH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ones are orthogonal – 0’s at each-other’s frequencies other tha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er 2x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of encoder rep 64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ed with WALSH code (id c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ed with PN to id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 to 800MHz carrier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users M = 1.45*Gp (processing g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nnon limit says CDMA systems can have more users per cell than traditional narrowband systems limited by number of dimens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have to account for interference noise and power control accuracy, which lowers this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prefix for channel effects – must be long enough for this to f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MA1X EV-DV Rel. B will be OFDM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dvantage of moments of silence in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06C-88E4-4793-9849-B67858E3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1DB-5DCB-4185-A5F4-6C0ADB42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7BC-50E4-49C0-92BC-0141EA70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459-7BDD-4253-8163-DEF339CF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224-9632-40F9-A15E-0993E67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03AD-6757-4BD6-83A1-78ACB77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976C-D795-4A09-B109-E7C6341E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B28-0C90-4379-89C4-A533B3C6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6957-111F-4F5D-84F1-2B405FBA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D4FC-A0CB-4267-847B-A1E4FC53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C0C-630D-464E-9356-92DB891B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B5D-067D-475A-A25C-02EFC307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AD36-3A8F-4AE2-AF54-77F7A9E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1902-A8C7-417A-8255-AF52C05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DAC9-460A-4CED-B2A5-B5D52A0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632-5585-43C4-A179-9796F53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28A-15A4-4443-86E5-BB1388FD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E86-B2C7-40B4-893E-D5E78DC1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925-A439-476E-80DE-0DA22D2E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82B-B00A-4387-92A6-6A778120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9AA-7EFC-451E-AB39-8BAA90D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191-26E3-4E1E-A398-6768BED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298-F89B-4377-8474-6367078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48B3-CF0E-4E00-8A5F-81AABB1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E347-617E-4FAD-8761-FBC226C5DE1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883-033F-4968-9624-654B0E00317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mplextoreal.com/chapters/ofdm2.pdf" TargetMode="External"/><Relationship Id="rId3" Type="http://schemas.openxmlformats.org/officeDocument/2006/relationships/hyperlink" Target="http://www.qualcomm.com/enterprise/pdf/WhyMAX_JBelk.pdf" TargetMode="External"/><Relationship Id="rId4" Type="http://schemas.openxmlformats.org/officeDocument/2006/relationships/hyperlink" Target="http://www.qualcomm.com/enterprise/pdf/WhyMAX_JBelk.pdf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1X vs WiFi/WiMAX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 overview of Broadband Technologies in the U.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 Block Diagra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726732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alsh Function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unctions used as spreading code Forward Chann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d to form orthogonal modulation symbols on Reverse Chann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64 mutually orthogonal func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gital Speech multiplied by Wals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t Receiver, mulitplied by synchronized Walsh function for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i-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 user (differentiate user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N (Pseudorandom Noise) Sequences</a:t>
            </a: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3619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N sequence is Modulo-2 Added to Data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1 and 1 </a:t>
            </a:r>
            <a:r>
              <a:rPr b="0" lang="en-US" sz="24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-1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Data Sequence: s(t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de Sequence: c(t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t Receiver, Modulo-2 Added with Cod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81480" y="1752480"/>
          <a:ext cx="3619800" cy="1828800"/>
        </p:xfrm>
        <a:graphic>
          <a:graphicData uri="http://schemas.openxmlformats.org/drawingml/2006/table">
            <a:tbl>
              <a:tblPr/>
              <a:tblGrid>
                <a:gridCol w="1408320"/>
                <a:gridCol w="554040"/>
                <a:gridCol w="552240"/>
                <a:gridCol w="552600"/>
                <a:gridCol w="552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s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c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s(t)c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029200" y="3962520"/>
          <a:ext cx="3886200" cy="2249280"/>
        </p:xfrm>
        <a:graphic>
          <a:graphicData uri="http://schemas.openxmlformats.org/drawingml/2006/table">
            <a:tbl>
              <a:tblPr/>
              <a:tblGrid>
                <a:gridCol w="1674720"/>
                <a:gridCol w="554040"/>
                <a:gridCol w="552600"/>
                <a:gridCol w="552240"/>
                <a:gridCol w="5526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s(t)c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1872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c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s(t)c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c(t)=s(t)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80808"/>
                      </a:solidFill>
                    </a:lnL>
                    <a:lnR w="1872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1872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2000 Rel. 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Uses cdmaOne overhead channe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dds new overhead channe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upport for higher speed data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pacity improvem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etter support for packet-switched servic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DMA1X EV-DO (Verizon V-Cast) 3.1Mbps down-lin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2.1Mbps Uplin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WA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obile data and Voi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he ‘Wi’ Technologi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560" y="497160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OFDM-based broadband solutions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-Fi (802.11)Standar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d for LAN (local area network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&lt;300 ft ran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oretical data rate ~&lt;11Mbps (with limitation of ADSL/cable speed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pectrum at 2.4GHz (vulnerable to devices operating at same frequency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ot capable of seamless hand-off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ot a replacement to cellular broadband solu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Wi-MAX (802.16) Standar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Used for MAN (Metropolitan area networks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&lt;30 mile rang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oretical data rate ~&lt;100Mbp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pectrum allocation at 2.5GHz for US/Mexico/Brazi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eeds high-gain antennas size of laptop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r Max Range, needs tall towers and unobstructed LO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Not a replacement to cellular broadband solution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FLASH-OFDM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WAN type technolog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verage data rate ~1.5Mbp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ovides mobility and QoS (Quality of Service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LOS capab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quires 1.25MHz of paired spectru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urrent trials operate in 700MHz, 800MHz, and 2.3GHz band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n be paired with CDMA standar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modul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rthogonal Frequency-Division Modul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ata is 1</a:t>
            </a:r>
            <a:r>
              <a:rPr b="0" lang="en-US" sz="2800" spc="-1" strike="noStrike" baseline="30000">
                <a:solidFill>
                  <a:srgbClr val="080808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modulated in QAM or QPS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ruly orthogonal channels (harmonically-spaced frequency channels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aps benefits of spread spectrum (with frequency-hopping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aps benefits of TDMA-type technologies with little interference from adjacent channel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3880" y="1295280"/>
            <a:ext cx="7391520" cy="5257800"/>
            <a:chOff x="1523880" y="1295280"/>
            <a:chExt cx="7391520" cy="525780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1523880" y="1295280"/>
              <a:ext cx="739152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1523880" y="1295280"/>
              <a:ext cx="739152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 basic concep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800MHz and 1.9GHz ban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1 bit of conversation = 128 coded bi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rthogonal Signals due to Walsh cod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pread Spectrum through PN cod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wer Control for near-far effec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QPSK modulati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DMA channels limit by tolerance to interfere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ference from other cell-site users as Gaussian nois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hannon limi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AKE receiver for multi-path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Transmitter Chai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1752480"/>
            <a:ext cx="7391520" cy="4038840"/>
            <a:chOff x="1600200" y="1752480"/>
            <a:chExt cx="7391520" cy="403884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600200" y="1752480"/>
              <a:ext cx="73915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600200" y="1752480"/>
              <a:ext cx="7391520" cy="403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ime Varying Fading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3880" y="1295280"/>
            <a:ext cx="7391520" cy="5257800"/>
            <a:chOff x="1523880" y="1295280"/>
            <a:chExt cx="7391520" cy="525780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523880" y="1295280"/>
              <a:ext cx="739152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 txBox="1"/>
            <p:nvPr/>
          </p:nvSpPr>
          <p:spPr>
            <a:xfrm>
              <a:off x="1523880" y="1295280"/>
              <a:ext cx="739152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Channel Resourc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00200" y="1295280"/>
            <a:ext cx="7391520" cy="5257800"/>
            <a:chOff x="1600200" y="1295280"/>
            <a:chExt cx="7391520" cy="525780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1600200" y="1295280"/>
              <a:ext cx="739152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1600200" y="1295280"/>
              <a:ext cx="7391520" cy="52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Time/Freq Representation of OFDM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1371600"/>
            <a:ext cx="7162560" cy="5095800"/>
            <a:chOff x="1676520" y="1371600"/>
            <a:chExt cx="7162560" cy="509580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676520" y="1371600"/>
              <a:ext cx="7162560" cy="50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 txBox="1"/>
            <p:nvPr/>
          </p:nvSpPr>
          <p:spPr>
            <a:xfrm>
              <a:off x="1676520" y="1371600"/>
              <a:ext cx="7162560" cy="509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80808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Illustra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rst set of BPSK data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, 1, -1, -1, 1, 1, 1, -1, 1, -1, -1, -1, -1,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-1, 1, -1, -1, -1, 1, 1, -1, -1, -1, 1, 1,…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rial to Parallel (assume 4 carriers):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4038480" cy="2803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84360" y="39276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4114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ff3300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N pts to IFFT</a:t>
            </a:r>
            <a:r>
              <a:rPr b="0" lang="en-US" sz="18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44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ff3300"/>
                </a:solidFill>
                <a:latin typeface="Times New Roman"/>
              </a:rPr>
              <a:t>nd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N pts to IFFT</a:t>
            </a:r>
            <a:r>
              <a:rPr b="0" lang="en-US" sz="18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876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rgbClr val="ff3300"/>
                </a:solidFill>
                <a:latin typeface="Times New Roman"/>
              </a:rPr>
              <a:t>rd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N pts to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IFFT</a:t>
            </a:r>
            <a:r>
              <a:rPr b="0" lang="en-US" sz="18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880" y="52578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Illustration (cont.)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 ‘pretend’ to be in Frequency Domain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60483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Illustration (cont.)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FT equation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5334120" cy="1349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0200" y="3352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FFT equation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53341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Concep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ssentially, IFFT or FFT multiplies each symbol by sinusoid at particular carrier frequency (we map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nce spacing between carriers are harmonics, orthogona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est option for frequency-selective fading channels (sinusoids are eigenfunctions of channel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Concep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PSK data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600228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00200" y="25909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ach symbol sent on carrier: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276720" y="3105000"/>
            <a:ext cx="2901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OFDM Matlab exampl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ata stream (16-QAM modulated)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0481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nd through IFFT (output of IFF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14400" y="35053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14400" y="1752480"/>
            <a:ext cx="8915400" cy="1219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00200" y="4724280"/>
            <a:ext cx="70102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dd cyclic prefix for every frame   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(last 31 symbols appended to front)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ransmit</a:t>
            </a:r>
            <a:endParaRPr b="0" lang="en-US" sz="3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mplified Block Diag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60768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Matlab example (cont.)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nstellation at Receiver using Cyclic Prefix and Preambl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53164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Garg, Vijay K. </a:t>
            </a:r>
            <a:r>
              <a:rPr b="1" lang="en-US" sz="1800" spc="-1" strike="noStrike" u="sng">
                <a:solidFill>
                  <a:srgbClr val="a50021"/>
                </a:solidFill>
                <a:uFillTx/>
                <a:latin typeface="Tahoma"/>
              </a:rPr>
              <a:t>IS-95 CDMA and cdma2000 Cellular/PCS Systems Implementation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, Prentice Hall, 2000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Teets, Gregory J. 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Tahoma"/>
              </a:rPr>
              <a:t>A.G. Edwards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Wireless Technology: WiFI &amp; WiMAX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, August 6, 2004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Aytar, Ozgur. 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Tahoma"/>
              </a:rPr>
              <a:t>Pyramid Research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Positioning WiMAX How WiMAX Stands Up To DSL, Cable, Wi-Fi and 3G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aolini, Monica. </a:t>
            </a:r>
            <a:r>
              <a:rPr b="0" lang="en-US" sz="1800" spc="-1" strike="noStrike" u="sng">
                <a:solidFill>
                  <a:srgbClr val="080808"/>
                </a:solidFill>
                <a:uFillTx/>
                <a:latin typeface="Tahoma"/>
              </a:rPr>
              <a:t>Wi-Fi, WiMAX and 802.20 – The Disruptive Potential of Wireless Broadband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. BWCS Ltd, 2004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larion Whitepaper 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Vector-LDPC™ Codes for Mobile Broadband Communication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OFDM On-Line Tutorial: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complextoreal.com/chapters/ofdm2.pdf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Qualcomm CBT CDMA Concepts Training CD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larion Whitepaper 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OFDM for Mobile Data Communication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Liu, Ke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;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 Kadous,Tamer and Sayeed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Akbar M. IEEE TRANSACTIONS ON INFORMATION THEORY, 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Orthogonal Time–Frequency Signaling Over Doubly Dispersive Channels, 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Vol. 50, No. 11, November 2004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Belk, Jeffrey K. </a:t>
            </a:r>
            <a:r>
              <a:rPr b="1" i="1" lang="en-US" sz="1800" spc="-1" strike="noStrike">
                <a:solidFill>
                  <a:srgbClr val="a50021"/>
                </a:solidFill>
                <a:latin typeface="Tahoma"/>
              </a:rPr>
              <a:t>Why MAX? A Wireless Primer and Discussion on Wireless Reality.</a:t>
            </a:r>
            <a:r>
              <a:rPr b="0" i="1" lang="en-US" sz="1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4"/>
              </a:rPr>
              <a:t>www.qualcomm.com/enterprise/pdf/WhyMAX_JBelk.pdf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/D and Vocod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62690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ncoder/Interlea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63244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terleaving Metho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59436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alsh and PN codes Appli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63151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adrature Spread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0" y="2209680"/>
            <a:ext cx="620064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DMA RAKE Receiver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ulti-Path Advantag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61531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22:52:51Z</dcterms:created>
  <dc:creator>Susy</dc:creator>
  <dc:description/>
  <cp:keywords/>
  <dc:language>en-US</dc:language>
  <cp:lastModifiedBy>Susy</cp:lastModifiedBy>
  <dcterms:modified xsi:type="dcterms:W3CDTF">2005-12-08T02:06:36Z</dcterms:modified>
  <cp:revision>64</cp:revision>
  <dc:subject/>
  <dc:title>CDMA1X-EV vs WiFi/WiMA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