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E96-B057-41AE-97A3-826BD538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A83-FDDE-44B9-A8DD-3BA75CEA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E5C-1FC9-4D8B-8548-41A4DD94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1FE-A1CE-4240-B112-5B68D5EC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DB20-058F-45C4-930E-7D076FA7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656C-B54C-4D6C-ACBD-92171FDC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4E74-24C7-4A5C-B438-75189B8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BD0-2CB1-4CD8-A4A4-62636C2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67AA-7325-4186-B5FC-5F637984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1372-A326-4153-8789-19F786F5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D92A-0029-447A-9060-5A82B6ED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710-51A3-4705-A4B7-ACDD71F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CCA6-75DC-4EBE-A4CD-1C6CC38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34E4-1A17-46C5-9A6E-1FA8DC5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B8F5-CE4E-4F91-B6B8-C3E6F52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05A1-8741-450D-9F60-FBCEEBD1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DBC6-302F-42E0-9330-7C304FDC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040-1EB9-4406-8174-A7985688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DF1-4989-4F4F-9A1D-3E7062E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AC9-62C7-4534-8356-B2973F3B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7D4-58C6-46C1-B3F5-42A169E2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E18-18DB-46AF-89CC-FF91647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50E-A18D-43A9-B56E-259EE53E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D26-B7FA-42CF-A7FB-242A5374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C22-C202-42A1-8F0C-399097233B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E130-D150-404C-A40A-62BF95C1DA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CDMA AND GSM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N INAM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6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restrial Facility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unction is contained in both BSC and MSC and it manages the terrestrial signaling links, routes and voice circuit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Call Processing Element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63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S-95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d by Telecommunications Industries Association/Electronic Industries Association (TIA/EIA) for CDMA air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as a dual-mode operation, permits MS to operate in Advanced Mobile Phone System (AMPS) or CDMA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same 1.228 MHz bandwidth in every cell-frequency reuse factor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l Architecture IS-9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84360" y="1657440"/>
            <a:ext cx="7920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S-95 ra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two rate se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set 1-operating at high rate of 8kbp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set 2-operating at high rate of 13k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s have different coding and syntax characteristics. The rates are negotiated between the mobile station and the network during connection set up and handsha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DMA Timing op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ise timing required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se S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bil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 is responsible for providing this timing across the air interface, which is sourced from GPS. The GPS is traceable and synchronous with Universal Coordinated Time (U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MA system time is the absolute time referenced at the BS, offset by the one-way or round trip of the trans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 of these operations is to ensure that the BS and MS are synchronized with regard to their TX and R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969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S-95 Channel Structu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ward channels are divided into control and traffic channels, each channel identified by a specific WALSH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545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rthogonal Spreading (OS)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apply an orthogonal Walsh codes (WC) W8 to W63 to the bit stream. W8 to W63 are used to identify each downlink traffic cha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bit rate or the chip rate on air interface is 1.228Mhz which is the result of spreading the 19.2kbits/s I/P stream with 64 bit Walsh code. i.e.  19.2 x 64 = 1.228 Mbi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WC operation are used as input to Quadrature sprea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Quadrature Spread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O.S , each channel is quadrature spread with spreading sequence of length 2^15 which further codes the signal with PN seq. uniquely associated with a bas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N sequences are used, the I and Q quad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udy CDMA and G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tion/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ypes of control channels are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one pilo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one sync channel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 one to seven paging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everse Interface, channels consists of either Access channels or Traffic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channel is identified by a distinct access channel long code sequ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ffic channel by distinct user long cod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andoff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handoff of mobile station from one base station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MA handoffs are characterized by beginning communications with new base station on the SAME freq. band before terminating with the old bas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Handoff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ft Hand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rd Hand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andoff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is in communication with more than one BS and is making decisions about which BS to use, based on the signal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station keeps an active set of BS in which a pilot channel is associated with forward traffic cha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ard handoff, MS abandons one BS and then picks up another. Only one BS is in active set-”break before mak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gur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S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ystem for Mobil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typically in 3 bands; GSM 900, GSM 1800, GSM 1900 (PCS 1900) and also GSM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 is the original system that was FIRST implemented in Europe in early 8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SM- Air Interface (U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interface uses a combination of FDMA and T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4 channel pairs operate at full duplex (FDX) with the uplink and downlink allocated with different carrier frequencies. Thereafter, these FDM channels use TD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MA slots are allocated with 8 slots to a frame and include information and control 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dividual slot comprises of 156.25 bits with a slot time 0.577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receives 114 bits from this slot, and remaining bits are used for synchronization and control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ance of one time slot makes up one physical channel as shown in the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gur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uthentic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uses Authentication Algorithm called A3, which is contained in removable SIM or Subscriber Identity Module c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 card contains a microprocessor that can store different authentication programs for different system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uthentication process is carried out using shared secret data value called ‘Ki’. It is stored in both the mobile and authentication center of base cellula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1640" y="1679400"/>
            <a:ext cx="72007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is CDMA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technique –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de Division Multipl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MA places all users o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um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uses a techniqu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read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. Channel B.W is 1.23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provide more Capacity than FDMA or T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raffic channel structure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uses a single radio carrier frequency waveform to multiplex (time-share) control, voice and data chann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conversation uses radio channel called a Traffic Channel (TC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me is composed of 8 time slots used by 8 different conversation. From each frame, each user is assigned to a particular time slot burst for reception, and a particular corresponding burst for trans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Figur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comm. is conducted on two 200kHz wide modulated carrier frequency waveforms: a downlink or forward carrier (from cell site to the mobile to mob. Telephone) and an uplink or reverse carrier (from mobile phone to cell s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systems allow several users to share each radio channel frequency by dedicating a specific time slot from each frame to the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channels can be FULL rate or HALF rate . Full rate systems assign one time slot per frame and allow 8 users to simultaneously share a radio channel. Data rates for users are 22.8 kbps, but typ. 9.6kbps for customer data or fax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rate GSM systems assign one time slot every other frame to allow up to 16 users to share a radio channel. Here user available data rates are11.4kb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adio channel BW and Spac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bandwidth of modulated GSM carrier frequency is 200kH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uses a special form of FSK which has low amount of adjacent frequency spectrum power e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trum shows that radio energy is primarily distributed within 200kHz b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pectrum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dulation and Data ra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uses Gaussian Minimum Shift keying or GMSK modulation to produce a gross data transmission rate of 270kb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of GMSK was the optimum or near optimum combination of several desirable properties which include small susceptibility to radio noise &amp; interference, small bandwidth and constant power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tal data rate achieved is shared by multiple users on a single radio carrier cha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Contd.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iscarding the non-information bits, actual assigned bit rate that a subscriber gets to use in each time slot is only 22.8kb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fading, interference noise etc.., a portion of this gross delivered bit rate is devoted to data bits used to detect and correct bits that are in error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SM digital speech coder, only 13 kb/s of 22.8 kb/s is ‘Real’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ferenc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M Superphones’ by Lawrence Harte, Richard Levine &amp; Geoff Livings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MA Internetworking’ by Su-Lin Low, Ron Schn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and Wireless Networks’ by Uyless Bl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twork Architecture-CDMA </a:t>
            </a:r>
            <a:r>
              <a:rPr b="0" lang="en-US" sz="1200" spc="-1" strike="noStrike">
                <a:solidFill>
                  <a:srgbClr val="330033"/>
                </a:solidFill>
                <a:latin typeface="Times New Roman"/>
              </a:rPr>
              <a:t>pg 19,fig 1-8</a:t>
            </a:r>
            <a:endParaRPr b="0" lang="en-US" sz="1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7756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reless Network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estrial Faci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ll process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steps required of both BSC and MSC to set up and release wireless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includes Mobile Origination and Mobile Termination call set up and call clearing scenarios initiated by mobile, the BSC and the MS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like Call failure scenarios, such as timer expiration and unsuccessful resource allocation are also inclu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bility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 are needed to manage the registration and access status of individual mobile subscr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mobile parameters such as mobile location, mobile identity, and authentication statu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acilitates Roaming within or across networks deployed by other service provi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pplementary Servi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ubscribers features that provide capability other than voice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Message Service (S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Waiting Notification (M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Forwarding and Call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adio Resource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llocating radio channels for both voice and data traff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agement of Handoffs within a BSC, between BSCs, and across MS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2:21:39Z</dcterms:created>
  <dc:creator>labuser</dc:creator>
  <dc:description/>
  <dc:language>en-US</dc:language>
  <cp:lastModifiedBy>Abut</cp:lastModifiedBy>
  <dcterms:modified xsi:type="dcterms:W3CDTF">2005-12-23T23:35:43Z</dcterms:modified>
  <cp:revision>70</cp:revision>
  <dc:subject/>
  <dc:title>CDMA AND GSM</dc:title>
</cp:coreProperties>
</file>