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3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BA9-D3BB-4F4D-99E8-CC3E39FA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6FF3-DEC4-4ADD-B6D2-2517C3BC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C85-ED83-4989-AA58-7410F0DD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DD0-9CAC-4ED7-8E1B-B81EBAA0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AE4A-BEE6-4DA6-80A2-DEB3B973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060E-9CB8-4BC2-B6E6-82B61E00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1248-6EA1-4825-BA78-E34E5374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3568-E79D-4C15-AD4E-808C5FB3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A8C1-F2EB-4897-B223-3A990C88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1874-E998-4A9A-86EC-7AAF9DC4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54E0-F804-4D5C-AEC9-705D2CDE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CFBD-165D-41BC-B63A-23FC92CD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E23F-8354-437D-BD27-C67659B8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DD7B-D42B-411B-9B66-6E8E95BD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D507-1653-4EEA-8ABA-DA382782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F4E8-E780-4499-A00C-BE4BB387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9313-89D4-4C75-B9D3-2041748B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6F19-D07F-4751-A0DE-16DABAC3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AA5-04C4-43CC-AD20-0ED14AC4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6319-DA05-453B-A290-C5423538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E99F-D204-41CF-AAA8-8D0C8B75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3DB1-8E7B-43FD-9B14-AD03929F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0EE9-40EA-4AC9-9131-FF0F8A0A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D19F-AB15-4ED1-BF3A-C9498664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0419-71CB-47DC-871F-C80F9184FC8F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17A8-E831-4329-ACB1-4B34C8F6E95C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宋体"/>
              </a:rPr>
              <a:t>Face Detection </a:t>
            </a:r>
            <a:br>
              <a:rPr sz="4800"/>
            </a:b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宋体"/>
              </a:rPr>
              <a:t>in Color Imag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EE65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Gang He and Liyuan Zh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Color Seg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宋体"/>
              </a:rPr>
              <a:t>Skin wind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38862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Color Seg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In practice, the chrominance is nonlinearly dependent on luminan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Further transformation to make the skin cluster luma-independent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宋体"/>
              </a:rPr>
              <a:t>   </a:t>
            </a:r>
            <a:r>
              <a:rPr b="0" lang="en-US" sz="1600" spc="-1" strike="noStrike">
                <a:solidFill>
                  <a:srgbClr val="4d4d4d"/>
                </a:solidFill>
                <a:latin typeface="Tahoma"/>
                <a:ea typeface="宋体"/>
              </a:rPr>
              <a:t>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宋体"/>
              </a:rPr>
              <a:t>,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→                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676520" y="4648320"/>
                <a:ext cx="68580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14600" y="4648320"/>
                <a:ext cx="6858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886200" y="4648320"/>
                <a:ext cx="68580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724280" y="4648320"/>
                <a:ext cx="331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029200" y="4648320"/>
                <a:ext cx="38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Color Seg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Image after Nonlinear trans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666880" y="2895480"/>
            <a:ext cx="39625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Skin Color Transform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657600" y="27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267080" y="1981080"/>
            <a:ext cx="2895840" cy="2114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990720" y="4267080"/>
            <a:ext cx="2971800" cy="2189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267080" y="4267080"/>
            <a:ext cx="2971800" cy="2217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990720" y="1905120"/>
            <a:ext cx="297180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ace Area Candida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Thus far, after a series transformations ,  we can approximately identify the face area and circle out each face candid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These face candidates may include extra error areas (parts with skin colo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ace Area Ver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Our next task is to verify these face candidates by means of facial features loc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Localization of Facial Fe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Eyes and mouth are the most prominent features for recognition on the 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We directly locate eyes, mouth based on the feature maps derived from both the chroma and lum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EyeMap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The eye map from Chrominance is based on the high C</a:t>
            </a:r>
            <a:r>
              <a:rPr b="0" lang="en-US" sz="3200" spc="-1" strike="noStrike" baseline="-16000">
                <a:solidFill>
                  <a:srgbClr val="4d4d4d"/>
                </a:solidFill>
                <a:latin typeface="Arial"/>
                <a:ea typeface="宋体"/>
              </a:rPr>
              <a:t>b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 and low C</a:t>
            </a:r>
            <a:r>
              <a:rPr b="0" lang="en-US" sz="3200" spc="-1" strike="noStrike" baseline="-16000">
                <a:solidFill>
                  <a:srgbClr val="4d4d4d"/>
                </a:solidFill>
                <a:latin typeface="Arial"/>
                <a:ea typeface="宋体"/>
              </a:rPr>
              <a:t>r 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around the e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where    is complement of C</a:t>
            </a:r>
            <a:r>
              <a:rPr b="0" i="1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r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   :(255-     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057400" y="3124080"/>
                <a:ext cx="380988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yemap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d>
                      </m:e>
                    </m: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C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828800" y="3733920"/>
                <a:ext cx="417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C</m:t>
                            </m:r>
                          </m:e>
                        </m:ba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7391520" y="3733920"/>
                <a:ext cx="398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86000" y="4343400"/>
            <a:ext cx="373392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EyeMap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58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宋体"/>
              </a:rPr>
              <a:t>To emphasize brighter and darker pixels around eye regions, we use gray-scale dilation and erosion to construct the eye mapL from the lumi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宋体"/>
              </a:rPr>
              <a:t>Where         is the structuring element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629400" y="4038480"/>
          <a:ext cx="1371600" cy="122076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宋体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362320" y="5334120"/>
                <a:ext cx="8380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71" name=""/>
          <p:cNvGraphicFramePr/>
          <p:nvPr/>
        </p:nvGraphicFramePr>
        <p:xfrm>
          <a:off x="2133720" y="4191120"/>
          <a:ext cx="3962160" cy="88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4191120"/>
                    <a:ext cx="396216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EyeMap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124080" cy="1849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3124080" cy="1827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895480" y="4114800"/>
            <a:ext cx="335304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Applic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Video surveillance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Human computer interfa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Face recognition 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Face image database manag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Face detection is the first and very cru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step in these identification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Eye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27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  <a:ea typeface="宋体"/>
              </a:rPr>
              <a:t>We combine EyemapC and EyemapL to get the final Eye M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600200" y="4038480"/>
            <a:ext cx="3352680" cy="1997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429000" cy="20764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523880" y="3124080"/>
          <a:ext cx="632484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124080"/>
                    <a:ext cx="63248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Mouth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The color of mouth region contains stronger red component than other facial regions. Hence, the Cr is greater than C</a:t>
            </a:r>
            <a:r>
              <a:rPr b="0" lang="en-US" sz="3200" spc="-1" strike="noStrike" baseline="-16000">
                <a:solidFill>
                  <a:srgbClr val="4d4d4d"/>
                </a:solidFill>
                <a:latin typeface="Arial"/>
                <a:ea typeface="宋体"/>
              </a:rPr>
              <a:t>b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 in the mouth region. Further we  noticed the month has a relatively low response in the C</a:t>
            </a:r>
            <a:r>
              <a:rPr b="0" lang="en-US" sz="3200" spc="-1" strike="noStrike" baseline="-18000">
                <a:solidFill>
                  <a:srgbClr val="4d4d4d"/>
                </a:solidFill>
                <a:latin typeface="Arial"/>
                <a:ea typeface="宋体"/>
              </a:rPr>
              <a:t>r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/C</a:t>
            </a:r>
            <a:r>
              <a:rPr b="0" lang="en-US" sz="3200" spc="-1" strike="noStrike" baseline="-16000">
                <a:solidFill>
                  <a:srgbClr val="4d4d4d"/>
                </a:solidFill>
                <a:latin typeface="Arial"/>
                <a:ea typeface="宋体"/>
              </a:rPr>
              <a:t>b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 feature but high response in C</a:t>
            </a:r>
            <a:r>
              <a:rPr b="0" lang="en-US" sz="3200" spc="-1" strike="noStrike" baseline="-16000">
                <a:solidFill>
                  <a:srgbClr val="4d4d4d"/>
                </a:solidFill>
                <a:latin typeface="Arial"/>
                <a:ea typeface="宋体"/>
              </a:rPr>
              <a:t>r</a:t>
            </a:r>
            <a:r>
              <a:rPr b="0" lang="en-US" sz="3200" spc="-1" strike="noStrike" baseline="30000">
                <a:solidFill>
                  <a:srgbClr val="4d4d4d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Mouth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81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宋体"/>
              </a:rPr>
              <a:t>We can construct the mouth map a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590920" y="2895480"/>
          <a:ext cx="365760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895480"/>
                    <a:ext cx="365760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438280" y="3962520"/>
          <a:ext cx="434340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962520"/>
                    <a:ext cx="4343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Mouth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Where both C</a:t>
            </a:r>
            <a:r>
              <a:rPr b="0" lang="en-US" sz="3200" spc="-1" strike="noStrike" baseline="-16000">
                <a:solidFill>
                  <a:srgbClr val="4d4d4d"/>
                </a:solidFill>
                <a:latin typeface="Arial"/>
                <a:ea typeface="宋体"/>
              </a:rPr>
              <a:t>r</a:t>
            </a:r>
            <a:r>
              <a:rPr b="0" lang="en-US" sz="3200" spc="-1" strike="noStrike" baseline="30000">
                <a:solidFill>
                  <a:srgbClr val="4d4d4d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 and C</a:t>
            </a:r>
            <a:r>
              <a:rPr b="0" lang="en-US" sz="3200" spc="-1" strike="noStrike" baseline="-18000">
                <a:solidFill>
                  <a:srgbClr val="4d4d4d"/>
                </a:solidFill>
                <a:latin typeface="Arial"/>
                <a:ea typeface="宋体"/>
              </a:rPr>
              <a:t>r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/C</a:t>
            </a:r>
            <a:r>
              <a:rPr b="0" lang="en-US" sz="3200" spc="-1" strike="noStrike" baseline="-16000">
                <a:solidFill>
                  <a:srgbClr val="4d4d4d"/>
                </a:solidFill>
                <a:latin typeface="Arial"/>
                <a:ea typeface="宋体"/>
              </a:rPr>
              <a:t>b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 are normalized to the range [0,255], and n is the number of pixels within the face mask </a:t>
            </a:r>
            <a:r>
              <a:rPr b="0" i="1" lang="en-US" sz="3200" spc="-1" strike="noStrike">
                <a:solidFill>
                  <a:srgbClr val="4d4d4d"/>
                </a:solidFill>
                <a:latin typeface="Times New Roman"/>
                <a:ea typeface="宋体"/>
              </a:rPr>
              <a:t>FG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. The parameter is estimated as a ratio of the average C</a:t>
            </a:r>
            <a:r>
              <a:rPr b="0" lang="en-US" sz="3200" spc="-1" strike="noStrike" baseline="-16000">
                <a:solidFill>
                  <a:srgbClr val="4d4d4d"/>
                </a:solidFill>
                <a:latin typeface="Arial"/>
                <a:ea typeface="宋体"/>
              </a:rPr>
              <a:t>r</a:t>
            </a:r>
            <a:r>
              <a:rPr b="0" lang="en-US" sz="3200" spc="-1" strike="noStrike" baseline="30000">
                <a:solidFill>
                  <a:srgbClr val="4d4d4d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 to the average C</a:t>
            </a:r>
            <a:r>
              <a:rPr b="0" lang="en-US" sz="3200" spc="-1" strike="noStrike" baseline="-18000">
                <a:solidFill>
                  <a:srgbClr val="4d4d4d"/>
                </a:solidFill>
                <a:latin typeface="Arial"/>
                <a:ea typeface="宋体"/>
              </a:rPr>
              <a:t>r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/C</a:t>
            </a:r>
            <a:r>
              <a:rPr b="0" lang="en-US" sz="3200" spc="-1" strike="noStrike" baseline="-16000">
                <a:solidFill>
                  <a:srgbClr val="4d4d4d"/>
                </a:solidFill>
                <a:latin typeface="Arial"/>
                <a:ea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MouthM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We Then dilate the mouth map to let it more promi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828800" y="3352680"/>
            <a:ext cx="2733840" cy="2260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952880" y="3352680"/>
            <a:ext cx="28195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ace Score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If(eye&amp;mout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Switch(number_ey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ase &lt;=one or &gt;three, face=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ase two, face=face_s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Case three, select biggest two, face=face_sc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Face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ace _score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Eye nu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Eye shape, width vs he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Relative pos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inal Face Ident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88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If fac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Get the center and calculate the fac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Draw a green rectangul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宋体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Do no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inal Deci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09680" y="2666880"/>
            <a:ext cx="417348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Implement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宋体"/>
              </a:rPr>
              <a:t>Our face detection algorithm can detect multi-faces under different lighting condition and with various environment backgrou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宋体"/>
              </a:rPr>
              <a:t>Demonst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Various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Many new techniques are developed in recent year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  <a:ea typeface="宋体"/>
              </a:rPr>
              <a:t>Basic Approach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Neural networ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Color based approac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Feature based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uture Develop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宋体"/>
              </a:rPr>
              <a:t>1. iterative algorithm to improve detect 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宋体"/>
              </a:rPr>
              <a:t>2. more complex geometric relation to reject non-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宋体"/>
              </a:rPr>
              <a:t>3. optimize code to improve calculation sp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Append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In the YCbCr color space, we regard the chroma (    and    ) as function of the luma (Y):        and        . Let the transformed chroma be         and        . The skin color model is specified by the centers (denoted as        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1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752480" y="2438280"/>
                <a:ext cx="333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590920" y="2438280"/>
                <a:ext cx="331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629400" y="2438280"/>
                <a:ext cx="6858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924680" y="2438280"/>
                <a:ext cx="6858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791320" y="2819520"/>
                <a:ext cx="68580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7010280" y="2743200"/>
                <a:ext cx="331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391520" y="2819520"/>
                <a:ext cx="3045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81080" y="3505320"/>
                <a:ext cx="685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76720" y="3505320"/>
                <a:ext cx="6858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1523880" y="4267080"/>
                <a:ext cx="59436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ba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⋅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i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i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d>
                                </m:den>
                              </m:f>
                              <m:r>
                                <m:t xml:space="preserve">+</m:t>
                              </m:r>
                              <m:bar>
                                <m:barPr>
                                  <m:pos m:val="top"/>
                                </m:barPr>
                                <m:e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ba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h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r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Y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h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Append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3)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295280" y="2666880"/>
                <a:ext cx="7621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362320" y="2209680"/>
                <a:ext cx="449568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L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min</m:t>
                                          </m:r>
                                        </m:sub>
                                      </m:sSub>
                                    </m:e>
                                  </m:d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L</m:t>
                                          </m:r>
                                        </m:e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sub>
                                      </m:sSub>
                                    </m:e>
                                  </m:d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H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C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max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Y</m:t>
                                      </m:r>
                                    </m:e>
                                  </m:d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WH</m:t>
                                          </m:r>
                                        </m:e>
                                        <m:sub>
                                          <m:sSub>
                                            <m:e>
                                              <m:r>
                                                <m:t xml:space="preserve">C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</m:sub>
                                      </m:sSub>
                                    </m:e>
                                  </m:d>
                                </m:num>
                                <m:den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max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</m:e>
                                  </m:d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  <m:r>
                                <m:t xml:space="preserve">Y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133720" y="2743200"/>
                <a:ext cx="152280" cy="1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447920" y="3962520"/>
                <a:ext cx="52578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8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l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Y</m:t>
                                      </m:r>
                                    </m:e>
                                  </m:d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8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8</m:t>
                                      </m:r>
                                    </m:e>
                                  </m:d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8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18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8</m:t>
                                      </m:r>
                                    </m:e>
                                  </m:d>
                                </m:num>
                                <m:den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h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Append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Where     is either    or      ,     =46.97,      =23,       =14,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=38.76,        =20,        =10,    =125, and     =188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These parameter values are estimated from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samples of the HHI image database.     and     value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宋体"/>
              </a:rPr>
              <a:t>the        color space are 16 and 23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660680" y="2209680"/>
                <a:ext cx="489240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ba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4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l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r>
                                        <m:t xml:space="preserve">Y</m:t>
                                      </m:r>
                                    </m:e>
                                  </m:d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4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44</m:t>
                                      </m:r>
                                    </m:e>
                                  </m:d>
                                </m:num>
                                <m:den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in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Y</m:t>
                              </m:r>
                              <m:r>
                                <m:t xml:space="preserve">&lt;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4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Y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b>
                                          <m:r>
                                            <m:t xml:space="preserve">h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t xml:space="preserve">⋅</m:t>
                                  </m:r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54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32</m:t>
                                      </m:r>
                                    </m:e>
                                  </m:d>
                                </m:num>
                                <m:den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h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  <m:r>
                                <m:t xml:space="preserve">&lt;</m:t>
                              </m:r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209680" y="365760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657600" y="3657600"/>
                <a:ext cx="331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419720" y="3657600"/>
                <a:ext cx="4572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324480" y="3657600"/>
                <a:ext cx="6098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L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467480" y="3657600"/>
                <a:ext cx="685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371600" y="4038480"/>
                <a:ext cx="5335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971800" y="4114800"/>
                <a:ext cx="5335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L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267080" y="4114800"/>
                <a:ext cx="609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410080" y="4114800"/>
                <a:ext cx="333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7162920" y="4114800"/>
                <a:ext cx="3650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6248520" y="4952880"/>
                <a:ext cx="3808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7162920" y="4952880"/>
                <a:ext cx="3808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752480" y="5410080"/>
                <a:ext cx="6098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C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876920" y="3657600"/>
                <a:ext cx="4572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Refer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Rafael C. Gonzalez and Richard E. Woods, digital Image Processing, 2nd Edition, Prentice Hall, Inc. New Jersey, 20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Rein-Lien Hsu, Mohamed Abdel-Mottaleb and Anil K. Jain, IEEE Transactions on pattern analysis and machine intelligence, Vol24, May 200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P.T. Jackway and M. Deriche, “scale-space properties of the Multiscale Morphological dilation-erosion,” IEEE Trans. Pattern Analysis and Machine Intelligence, Vol. 18, Jan, 199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Bi-Zhong Chen, Four Approaches to Face Detection,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http://www.cs.wisc.deu/~beechung/facedet/report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MATLAB 7.0.4, The Mathworks, 200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Various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Neural Network: Need large quantity of training data to train the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Color based approach: use human skin color properties to achieve the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Feature based approach: use human face features (eyes, mouth, nose) to make the detection</a:t>
            </a: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ace Detection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In this project, we combine the color based and feature based approach to detect upright frontal faces in the presence of varying lighting conditions as well as complex backgrounds</a:t>
            </a:r>
            <a:r>
              <a:rPr b="0" lang="en-US" sz="3200" spc="-1" strike="noStrike">
                <a:solidFill>
                  <a:srgbClr val="4d4d4d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ace Detection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Two major step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Color Segmentation to localize the face candida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Facial feature detection for verifying detected face candidat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Flow ch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96880" y="2403360"/>
            <a:ext cx="714384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Color Seg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YC</a:t>
            </a:r>
            <a:r>
              <a:rPr b="0" lang="en-US" sz="3200" spc="-1" strike="noStrike" baseline="-14000">
                <a:solidFill>
                  <a:srgbClr val="4d4d4d"/>
                </a:solidFill>
                <a:latin typeface="Arial"/>
                <a:ea typeface="宋体"/>
              </a:rPr>
              <a:t>b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C</a:t>
            </a:r>
            <a:r>
              <a:rPr b="0" lang="en-US" sz="3200" spc="-1" strike="noStrike" baseline="-14000">
                <a:solidFill>
                  <a:srgbClr val="4d4d4d"/>
                </a:solidFill>
                <a:latin typeface="Arial"/>
                <a:ea typeface="宋体"/>
              </a:rPr>
              <a:t>r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 color space is utilized to eliminate luminance vari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RGB component → YC</a:t>
            </a:r>
            <a:r>
              <a:rPr b="0" lang="en-US" sz="3200" spc="-1" strike="noStrike" baseline="-14000">
                <a:solidFill>
                  <a:srgbClr val="4d4d4d"/>
                </a:solidFill>
                <a:latin typeface="Arial"/>
                <a:ea typeface="宋体"/>
              </a:rPr>
              <a:t>b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C</a:t>
            </a:r>
            <a:r>
              <a:rPr b="0" lang="en-US" sz="3200" spc="-1" strike="noStrike" baseline="-14000">
                <a:solidFill>
                  <a:srgbClr val="4d4d4d"/>
                </a:solidFill>
                <a:latin typeface="Arial"/>
                <a:ea typeface="宋体"/>
              </a:rPr>
              <a:t>r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1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52480" y="4114800"/>
          <a:ext cx="57150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114800"/>
                    <a:ext cx="57150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宋体"/>
              </a:rPr>
              <a:t>Color Seg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Image in RGB color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Image in YC</a:t>
            </a:r>
            <a:r>
              <a:rPr b="0" lang="en-US" sz="3200" spc="-1" strike="noStrike" baseline="-14000">
                <a:solidFill>
                  <a:srgbClr val="4d4d4d"/>
                </a:solidFill>
                <a:latin typeface="Arial"/>
                <a:ea typeface="宋体"/>
              </a:rPr>
              <a:t>b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C</a:t>
            </a:r>
            <a:r>
              <a:rPr b="0" lang="en-US" sz="3200" spc="-1" strike="noStrike" baseline="-14000">
                <a:solidFill>
                  <a:srgbClr val="4d4d4d"/>
                </a:solidFill>
                <a:latin typeface="Arial"/>
                <a:ea typeface="宋体"/>
              </a:rPr>
              <a:t>r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宋体"/>
              </a:rPr>
              <a:t>after trans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95280" y="3352680"/>
            <a:ext cx="3353040" cy="2540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76920" y="3333600"/>
            <a:ext cx="3429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00:31:25Z</dcterms:created>
  <dc:creator>labuser</dc:creator>
  <dc:description/>
  <dc:language>en-US</dc:language>
  <cp:lastModifiedBy>Mandy Zhao</cp:lastModifiedBy>
  <dcterms:modified xsi:type="dcterms:W3CDTF">2005-12-06T20:11:37Z</dcterms:modified>
  <cp:revision>45</cp:revision>
  <dc:subject/>
  <dc:title>Slide 1</dc:title>
</cp:coreProperties>
</file>