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0D4-10DD-4B35-8ACC-4DC0E132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F7C-2776-46A2-909D-CE14D874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7B1-6691-443A-B565-ABC4C371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66C-F8BB-4EEE-9979-32351A6D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C6EE-E5C9-4243-BE1F-D5BD183F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0F41-A720-4F97-B901-597F5E59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FF6E-39BC-4126-9D90-FA54B307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0B1C-1C88-42AD-816F-77FEB4E4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D262-2AD7-4A06-949B-0E1EB0E5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1BCC-513E-42A7-9161-B7678A5C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FCDD-DED9-498A-9A6A-AA2A9A46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60D-9902-48D9-B6B6-34AC0A6D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4B51-6C63-493C-B32E-C5B506FA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FDA3-EA84-4D7C-91F6-1CAE682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C651-61DE-4F20-81BA-ED398713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FF29-9A77-4168-9463-900C741C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0376-275A-4FD7-A9C1-ED593CCE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01A-37AA-472A-AF0B-E011DE92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75C-AC1A-462E-9063-AEE355FF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022-30EA-4C20-AF1C-1993F1C2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C0F8-CAA2-4DDA-A01B-703A5B3B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CEA-1303-48EC-87EE-CA347401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AC9F-C497-4A73-96DC-CFF608AC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A2A-9E85-4CD2-A051-019FCC56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E11E-A91F-4E5A-936B-9772E312DB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4EC4-3A3A-4EDC-9E40-BCAA9BD09C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file:///trike.mpeg" TargetMode="External"/><Relationship Id="rId4" Type="http://schemas.openxmlformats.org/officeDocument/2006/relationships/hyperlink" Target="file:///trike.mpeg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swing.mpeg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freespace.virgin.net/hugo.elias/graphics/x_motion.htm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cs.ust.hk/~rossiter/mm_projects/video_blur/blur.html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www.cc.gatech.edu/cpl/projects/blur/movies/" TargetMode="External"/><Relationship Id="rId7" Type="http://schemas.openxmlformats.org/officeDocument/2006/relationships/hyperlink" Target="http://www.cc.gatech.edu/cpl/projects/blur/movies/" TargetMode="External"/><Relationship Id="rId8" Type="http://schemas.openxmlformats.org/officeDocument/2006/relationships/hyperlink" Target="http://www.cc.gatech.edu/cpl/projects/blur/movies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file:///motion_blur_past.mpeg" TargetMode="External"/><Relationship Id="rId4" Type="http://schemas.openxmlformats.org/officeDocument/2006/relationships/hyperlink" Target="file:///motion_blur_future.mpeg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asketBall.mpeg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otion Blu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z Is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on Ha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 Tr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 is observed to stay still, and therefore it’s visual quality is pre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ng object is observed to be moving, so motion blur is added only to that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 Tr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419720" cy="32194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2224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648320" cy="3124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5920" y="5181480"/>
            <a:ext cx="37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Chicken Run sample of motion bl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Via Object Tra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Object tr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7543800" cy="5502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924680" y="594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See video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77640" y="129528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Bl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30440" y="39625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Bl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620120" y="1828800"/>
            <a:ext cx="7617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620120" y="4419720"/>
            <a:ext cx="9144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LAB Blur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tion Blurring function used by MATLAB works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filter, f, by supplying blur length and ang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rFilter = fspecial(‘motion’, length, the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BlurFilter to image, I, as follow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filter(I, BlurFilter, ‘replicate’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ussian Blur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943600" cy="3271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05960" y="5105520"/>
            <a:ext cx="51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ussianBlur = fspecial(‘gaussian’, hsize, sig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eraging and Disk Fil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400800" cy="1231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362320" y="4495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kFilter = fspecial(‘disk’, radi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9144000" cy="735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905120" y="31240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ingFilter = fspecial(‘average’, hsiz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Remove blur in pic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your camera to shorter shutter times. This diminishes blur effects on moving obj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algorith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e Filte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ener Filtering (MMSE Filter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ucy-Richards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lind Deconv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age Restoration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2514600"/>
            <a:ext cx="1523880" cy="1143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2895480"/>
            <a:ext cx="533520" cy="4572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2514600"/>
            <a:ext cx="1524240" cy="1143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114800" y="365724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971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29718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2819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(x,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001000" y="3124080"/>
            <a:ext cx="1143000" cy="596880"/>
            <a:chOff x="8001000" y="3124080"/>
            <a:chExt cx="1143000" cy="596880"/>
          </a:xfrm>
        </p:grpSpPr>
        <p:grpSp>
          <p:nvGrpSpPr>
            <p:cNvPr id="229" name=""/>
            <p:cNvGrpSpPr/>
            <p:nvPr/>
          </p:nvGrpSpPr>
          <p:grpSpPr>
            <a:xfrm>
              <a:off x="8077320" y="3124080"/>
              <a:ext cx="304560" cy="228600"/>
              <a:chOff x="8077320" y="3124080"/>
              <a:chExt cx="304560" cy="228600"/>
            </a:xfrm>
          </p:grpSpPr>
          <p:sp>
            <p:nvSpPr>
              <p:cNvPr id="230" name=""/>
              <p:cNvSpPr/>
              <p:nvPr/>
            </p:nvSpPr>
            <p:spPr>
              <a:xfrm>
                <a:off x="8077320" y="3124080"/>
                <a:ext cx="304560" cy="171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077320" y="3181320"/>
                <a:ext cx="304560" cy="171360"/>
              </a:xfrm>
              <a:prstGeom prst="triangle">
                <a:avLst>
                  <a:gd name="adj" fmla="val 50000"/>
                </a:avLst>
              </a:prstGeom>
              <a:solidFill>
                <a:srgbClr val="000099">
                  <a:alpha val="83000"/>
                </a:srgbClr>
              </a:solidFill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8001000" y="32004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f(x,y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03848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(x,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2362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g(x,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2666880"/>
            <a:ext cx="152388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a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2743200"/>
            <a:ext cx="15242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334120"/>
            <a:ext cx="0" cy="129528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563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563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verse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Quikest and simplest way to restore an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 good estimate of the blurring function is needed for accurate recov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ssumes no noise i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verse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timates the transform of the original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85800" y="3429000"/>
                <a:ext cx="7467480" cy="26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,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,v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on Blur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effect we see on both still and video images when a given object is in mo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comes about when image is cap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added to an image after it is cap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removed from an image after it is captu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verse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Quick and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echnique responds badly if corrupted image contains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dified ‘better Inverse filter’ would be the Wiener fil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ener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minimizes the mean square error in the process of inverse filtering and noise smoo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additive 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ts the blur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a linear estimation of the original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asonable estimate of the degradation function is nee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ener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667200" y="386532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43000" y="1295280"/>
                <a:ext cx="7162920" cy="521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,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*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,v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u,v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ener Filte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t is the optimal tradeoff of inverse filtering and noise smoot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n approximation of the blurring function i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Wiener filter will fail if the blurring filter is singular.  In this case the filter will actually amplify the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n extra step to remove noise is needed, image enhanc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ucy-Richard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Linear Iterative techn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 is not always predic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o stop the algorithm?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&amp; error – observe the output (approximated original image) and stop when it’s accept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ults are proportional to the degree of knowledge of the blurring function and additive no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ucy-Richard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28600" y="1600200"/>
                <a:ext cx="8610480" cy="47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ucy-Richard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lgorithm may amplify noise after many it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occurs when the signal-to-noise ratio is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deconvlucy damping parameter DAMPAR to control noise ampl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 Decon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s to deblur an image without knowing the cause of the bl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 Decon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[J, PSF] = deconvblind(I,INITPSF, NUMIT, DAMPAR, WEIGHT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 = deblurred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F = Restored Point Spread Function (PS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blurred im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PSF = Initial PSF gu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IT = Number of It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MPAR = threshold deviation of the resulting image from image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T = Assigned to each pixel to reflect its recording quality in the cam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ind Decon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 to blind decon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taneously estimate the PSF and the true i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ind Deconvolution is an iterativ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Moving Object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pies more space over some Δt than a still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expos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film takes some Δ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time,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object will 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space o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d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pace will vary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acity in the imag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bl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962520" y="17524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freespace.virgin.net/hugo.elias/graphics/x_motion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cs.ust.hk/~rossiter/mm_projects/video_blur/blur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7"/>
              </a:rPr>
              <a:t>www.cc.gatech.edu/cpl/projects/blur/movies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8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nzalez, Rafael C.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gital Image Processing using Matlab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rson Education INC. 2004, New Jers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nzalez, Rafael C. , Woods, Richard E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gital Image Processing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dition.  Prentice Hall 2002 , New Jers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alp, A.Murat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gital Video Processing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entice Hall Inc. 1995 , new Jers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ing Motion Blur Can Be Done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similar process as “anti-aliasing” via “super sampl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shad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pas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or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futu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fr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racking a moving object frame-to-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4876920" y="3276720"/>
            <a:ext cx="2590560" cy="1917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2819520" y="1981080"/>
            <a:ext cx="1981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othes the edges of an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62120" y="220968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er-Samp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an image at a far greater resolution than needed (say, 200x200 when only 50x50 is need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s it into regions (50x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each 4x4 bloc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average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zes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6019920" y="26668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3809880" y="42670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1066680" y="55627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oral Anti-alia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tures many times more frames per second than needed (say, 4 tim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s each of 4 frames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every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ame which now has motion bl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3440" cy="3467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1333440" cy="3467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895480" y="2286000"/>
            <a:ext cx="1333800" cy="3467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419720" y="3390840"/>
            <a:ext cx="1333440" cy="34671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858000" y="228600"/>
            <a:ext cx="1717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 of Supersampling to Create Motion Bl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4880" y="649116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Falling Basket B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01:25:25Z</dcterms:created>
  <dc:creator>HAURYWJ</dc:creator>
  <dc:description/>
  <dc:language>en-US</dc:language>
  <cp:lastModifiedBy>IslasEL</cp:lastModifiedBy>
  <dcterms:modified xsi:type="dcterms:W3CDTF">2005-12-07T22:28:04Z</dcterms:modified>
  <cp:revision>28</cp:revision>
  <dc:subject/>
  <dc:title>Motion Blur</dc:title>
</cp:coreProperties>
</file>