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5FB-D729-4896-800A-73B3C869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C93-6EB8-4A37-B19A-8406C3B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D75-3DD3-4B39-841A-89849CF6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EFB-2E53-4F90-8134-2EC2E99C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9455-A0E5-402E-8FA0-5DC8C0E5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F667-F5BE-425A-81E5-82DDC44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24ED-708B-4D09-9CBF-2CC4C55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DD51-CF03-4D69-B146-36314B7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0198-8DCE-4D99-AA05-89700CB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26B6-1482-45F3-AA9B-27DCD7B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B402-3807-4301-A1D8-ADA1C66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9A5-9D8E-4FCC-A1D1-67896001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8D1C-91B3-4C9F-83D9-38C2262A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838C-D6F5-4E7A-8D94-165CB57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CCF-C38A-4863-8B32-263E817B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64D5-5B2F-4349-AFDE-B163C719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576-2C92-4032-AC79-0A7C00B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DC3-4BDF-4A6A-A4BE-2404962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739-C35F-411D-AF12-95E267BD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9FC-25ED-4D11-BD90-CB31570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77B-6B80-497E-ADA3-CDB51C8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9B0-B941-4577-B154-215E6EF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1D7-103F-412F-ABAC-7005B30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FE3-F70F-4C9D-8057-5DF2BD0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662-94BD-47C9-951F-67FD7CC539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56C0-5E26-4001-8363-6E24156210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watermarkingworld.org/" TargetMode="External"/><Relationship Id="rId2" Type="http://schemas.openxmlformats.org/officeDocument/2006/relationships/hyperlink" Target="http://www.watermarkingworld.org/" TargetMode="External"/><Relationship Id="rId3" Type="http://schemas.openxmlformats.org/officeDocument/2006/relationships/hyperlink" Target="http://www.watermarkingworld.org/" TargetMode="External"/><Relationship Id="rId4" Type="http://schemas.openxmlformats.org/officeDocument/2006/relationships/hyperlink" Target="http://www.mathworks.com/matlabcentral/fileexchange/loadFile.do?objectId=3508&amp;objectType=FILE" TargetMode="External"/><Relationship Id="rId5" Type="http://schemas.openxmlformats.org/officeDocument/2006/relationships/hyperlink" Target="http://www.mathworks.com/matlabcentral/fileexchange/loadFile.do?objectId=3508&amp;objectType=FILE" TargetMode="External"/><Relationship Id="rId6" Type="http://schemas.openxmlformats.org/officeDocument/2006/relationships/hyperlink" Target="http://www.cerias.purdue.edu/news_and_events/events/symposium/2001/posters/post_46.pdf" TargetMode="External"/><Relationship Id="rId7" Type="http://schemas.openxmlformats.org/officeDocument/2006/relationships/hyperlink" Target="http://www.engineering.ucsb.edu/~bruvold/ece178/report/team6report.html" TargetMode="External"/><Relationship Id="rId8" Type="http://schemas.openxmlformats.org/officeDocument/2006/relationships/hyperlink" Target="http://www.seas.upenn.edu/~pranav/Digital_Watermarking.htm" TargetMode="External"/><Relationship Id="rId9" Type="http://schemas.openxmlformats.org/officeDocument/2006/relationships/hyperlink" Target="http://www.seas.upenn.edu/~pranav/Digital_Watermarking.htm" TargetMode="External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IGITAL WATERMARK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S ALBERTO FAQ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N VAN NGU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ular grayscale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97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 of previous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73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 of previous image (enhanc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st DCT coefficient chang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782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 Coefficient of DCT chang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8x8 DCT of Im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597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1900" spc="-1" strike="noStrike">
                <a:solidFill>
                  <a:srgbClr val="006633"/>
                </a:solidFill>
                <a:latin typeface="Times New Roman"/>
              </a:rPr>
              <a:t>‘</a:t>
            </a:r>
            <a:r>
              <a:rPr b="0" lang="en-US" sz="1900" spc="-1" strike="noStrike">
                <a:solidFill>
                  <a:srgbClr val="006633"/>
                </a:solidFill>
                <a:latin typeface="Times New Roman"/>
              </a:rPr>
              <a:t>W’ depicts the suitable coefficients for the watermarking process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8x8 DCT Blo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2320" y="1752480"/>
          <a:ext cx="4419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419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mage In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atermark Embe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(L+i)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+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5120" y="2744640"/>
            <a:ext cx="579096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mage 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atermark Embed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(L+i)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+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 |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L+i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2668680"/>
            <a:ext cx="5867280" cy="28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herent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55623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Digital Watermarki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: Imperceptible insertion of information (“digital fingerprint”) into multimedia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: Insertion of information (such as a number text, image..) into original multimedia data through slight modification of the da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watermarking schemes (transfor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tial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ind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lation=E[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+i)]E[W(i)] + kE[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+i)]E[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)W(i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W, W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e zero mean and in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2817720"/>
            <a:ext cx="63244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OLOR QUANTIZATION WATERMARK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99320" y="319680"/>
            <a:ext cx="81453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or Image Watermarking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by P. Tsai et al./Signal Processing 84 (2004) 95-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Color Quantization techn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or Quant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different details of 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palette Design: Select representative colors of a particular im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xel Mapping Proced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closest color from the palette to represent the pixel with minimum distor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uare Euclidean Dist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066680" y="3886200"/>
                <a:ext cx="682956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q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4200" y="345600"/>
            <a:ext cx="81482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mbedd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143000"/>
          <a:ext cx="777240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77240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91400" y="312480"/>
            <a:ext cx="7551000" cy="6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mbedd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43000" y="1066680"/>
          <a:ext cx="58672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58672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mark Extracting Proced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locations of entries in the color index table that contains the watermark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value of the selected index is odd: Extrac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value of the selected index is even: Extract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143000"/>
          <a:ext cx="7543800" cy="4800240"/>
        </p:xfrm>
        <a:graphic>
          <a:graphicData uri="http://schemas.openxmlformats.org/drawingml/2006/table">
            <a:tbl>
              <a:tblPr/>
              <a:tblGrid>
                <a:gridCol w="2514240"/>
                <a:gridCol w="2514960"/>
                <a:gridCol w="2514600"/>
              </a:tblGrid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 IMAGES (512x5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WATER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 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EE (32x3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NS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150   55.8550   55.4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0771   51.8240   5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 f. har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2700   55.7732   53.89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945   51.3143   51.8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. Ab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2858   59.8210   57.09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4053   56.3068   54.8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9270   56.3346   56.2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5421   52.6053   54.2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3465   53.2265   52.84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537   48.7757   52.4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258   53.5468   54.2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1665   50.9137   52.65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143000"/>
          <a:ext cx="7543440" cy="479988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99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T IMAGES (512x5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WATER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EE (64x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(PSNR d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942   49.9373   49.6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3311   45.9639   47.29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 f. har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076   50.1172   48.2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8947   45.8431   46.03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. Ab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181   54.3688   51.5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8319   50.4090   49.0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591   50.7343   50.58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5722   46.9768   48.60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9038   47.7892   47.9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1776   42.8120   47.52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6945   48.2439   48.65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605   45.4984   47.45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9040" y="1599840"/>
            <a:ext cx="700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pyright pro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gerprin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oadcast monito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Authent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cal saf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95720" y="343080"/>
            <a:ext cx="716184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733920" cy="449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5816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95720" y="316080"/>
            <a:ext cx="716184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95360" y="316080"/>
            <a:ext cx="7543080" cy="7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99320" y="319680"/>
            <a:ext cx="730728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erimental 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actice, the watermark is scrambled (by DES or RSA) to provide extra protection against atta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lor palette is generated with optimal palette selection (e.g., Photosho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r palette plays an important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CA is used to sort the color palet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8880" y="309240"/>
            <a:ext cx="81662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’s hidd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8730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watermarkingworld.org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www.mathworks.com/matlabcentral/fileexchange/loadFile.do?objectId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=3508&amp;objectType=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www.cerias.purdue.edu/news_and_events/events/symposium/2001/posters/post_4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www.engineering.ucsb.edu/~bruvold/ece178/report/team6report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www.seas.upenn.edu/~pranav/Digital_Watermark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175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 of Algorithm</a:t>
            </a:r>
            <a:br>
              <a:rPr sz="46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42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quirement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ceptual 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yload of waterma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ivious and non-obliv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chnique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tial Doma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SB substit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uency Doma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T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WT based appro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T based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SB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mplest Watermarking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atermark is inserted into the least significant bits of the cover ob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human-perceptible differ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easy the implement, It has several drawbac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rivatives of this method using different b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LSB Encoding"/>
          <p:cNvPicPr/>
          <p:nvPr/>
        </p:nvPicPr>
        <p:blipFill>
          <a:blip r:embed="rId1"/>
          <a:stretch/>
        </p:blipFill>
        <p:spPr>
          <a:xfrm>
            <a:off x="2413080" y="2924280"/>
            <a:ext cx="4038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relation-Based Techniq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pseudo random noise (PN) pattern W(x,y) is added to the cover image I(x,y) according to the equation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W(x,y)=I(x,y)+k*W(x,y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retrieve the watermark, the same PN generator is seeded with the key and the correlation between the noise pattern and the image computed. If the correlation exceeds a certain a threshold T, the watermark is said to be detecte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ements on correlation-based technique: Instead of replacing a one bit, a sequence of bits. So that the threshold decision made is not whether the bit is '0' or '1' , but rather if it is a sequence of ‘0’ or ‘1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CT-Based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8400" y="2209680"/>
            <a:ext cx="7088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CT=Discrete Cosine Trans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is for JPEG com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l domain transform (as opposed to DF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CT of an image is calculated by taking 8x8 bocks of the im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fter DCT is made, the coefficients are reordered from low to high frequency as follow in a “zig-zag” fash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2:24:25Z</dcterms:created>
  <dc:creator>guitar</dc:creator>
  <dc:description/>
  <dc:language>en-US</dc:language>
  <cp:lastModifiedBy>Abut</cp:lastModifiedBy>
  <dcterms:modified xsi:type="dcterms:W3CDTF">2004-12-08T02:42:53Z</dcterms:modified>
  <cp:revision>48</cp:revision>
  <dc:subject/>
  <dc:title>What is Digital Watermarking?</dc:title>
</cp:coreProperties>
</file>