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3A7-1FE9-4C4C-9A8C-B2FB0C1B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817-244D-4E6A-8960-62742423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110-DE82-4C59-980D-A07B10ED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014-6CA1-4732-B523-3C5D2D4C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4B41-6072-45AB-9FFC-11E7EA2E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A6F2-D8FF-47BC-8E1D-D2D608AA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48CE-9426-4472-A02F-94AF4319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EE61-9D01-4868-AE1F-83D3A91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8A3F-1BDB-4812-B59C-261C5D4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B3E4-2A6D-4155-A64C-4375659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8ADB-4DBA-4B9B-8D67-BAD326C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0D4-22D4-48BE-AC3A-A7642278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E479-9AB1-4D7E-B0FB-7A98B92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E5B3-72CD-4E13-BB6E-DD0112A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490E-05F6-48C7-BBFE-F4A138EC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2B7B-6849-40F3-B2D6-29407F21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4D32-BBDC-473F-9279-37867B4F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B7D-D2A2-4A64-8929-E443B5A5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DD5-4E3C-4F39-AD78-67C23820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943-B0D2-4A2B-85F5-4E82B6FD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352-F6C7-438D-88AA-B5FBE815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AEE-2A29-46D9-B44B-7CC2D71B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604-003B-4ECE-85FC-113E35E7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0F0-2CD4-4D55-8219-AF7E2EC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F442-BE86-476F-9148-6DD0CE5A9749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8B72-F910-4459-B270-5DF14F3C5D6C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宋体"/>
              </a:rPr>
              <a:t>Face Detection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宋体"/>
              </a:rPr>
              <a:t>in Color Imag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EE65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Gang He and Liyuan Zh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Skin win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38862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n practice, the chrominance is nonlinearly dependent on lumina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urther transformation to make the skin cluster luma-independen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   </a:t>
            </a:r>
            <a:r>
              <a:rPr b="0" lang="en-US" sz="1600" spc="-1" strike="noStrike">
                <a:solidFill>
                  <a:srgbClr val="4d4d4d"/>
                </a:solidFill>
                <a:latin typeface="Tahoma"/>
                <a:ea typeface="宋体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,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→                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76520" y="4648320"/>
                <a:ext cx="6858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14600" y="4648320"/>
                <a:ext cx="6858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886200" y="4648320"/>
                <a:ext cx="6858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724280" y="4648320"/>
                <a:ext cx="331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29200" y="4648320"/>
                <a:ext cx="38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mage after Nonlinear trans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9625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Skin Color Transform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2895840" cy="2114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2971800" cy="2217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90720" y="1905120"/>
            <a:ext cx="29718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Area Candid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hus far, after a series transformations ,  we can approximately identify the face area and circle out each face candid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hese face candidates may include extra error areas (parts with skin col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Area Ver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Our next task is to verify these face candidates by means of facial features loc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Localization of Facial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Eyes and mouth are the most prominent features for recognition on the 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We directly locate eyes, mouth based on the feature maps derived from both the chroma and lu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yeMap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he eye map from Chrominance is based on the high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and low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r 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around the 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where    is complement of C</a:t>
            </a:r>
            <a:r>
              <a:rPr b="0" i="1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  :(255-     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057400" y="3124080"/>
                <a:ext cx="38098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yemap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828800" y="3733920"/>
                <a:ext cx="417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391520" y="3733920"/>
                <a:ext cx="39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4343400"/>
            <a:ext cx="37339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yeMap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To emphasize brighter and darker pixels around eye regions, we use gray-scale dilation and erosion to construct the eye mapL from the lu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Where         is the structuring elemen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629400" y="4038480"/>
          <a:ext cx="1371600" cy="12207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362320" y="5334120"/>
                <a:ext cx="8380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1" name=""/>
          <p:cNvGraphicFramePr/>
          <p:nvPr/>
        </p:nvGraphicFramePr>
        <p:xfrm>
          <a:off x="2133720" y="4191120"/>
          <a:ext cx="39621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191120"/>
                    <a:ext cx="39621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yeMap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124080" cy="1849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124080" cy="1827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895480" y="4114800"/>
            <a:ext cx="33530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Video surveillanc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Human computer interf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ace recognition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ace image databas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ace detection is the first and very cru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step in these identification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ye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  <a:ea typeface="宋体"/>
              </a:rPr>
              <a:t>We combine EyemapC and EyemapL to get the final Eye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3352680" cy="199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429000" cy="2076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124080"/>
          <a:ext cx="63248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6324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Mouth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he color of mouth region contains stronger red component than other facial regions. Hence, the Cr is greater than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in the mouth region. Further we  noticed the month has a relatively low response in the C</a:t>
            </a:r>
            <a:r>
              <a:rPr b="0" lang="en-US" sz="3200" spc="-1" strike="noStrike" baseline="-18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/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feature but high response in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 baseline="30000">
                <a:solidFill>
                  <a:srgbClr val="4d4d4d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Mouth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We can construct the mouth map a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90920" y="2895480"/>
          <a:ext cx="36576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95480"/>
                    <a:ext cx="3657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438280" y="3962520"/>
          <a:ext cx="434340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962520"/>
                    <a:ext cx="4343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Mouth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Where both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 baseline="30000">
                <a:solidFill>
                  <a:srgbClr val="4d4d4d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and C</a:t>
            </a:r>
            <a:r>
              <a:rPr b="0" lang="en-US" sz="3200" spc="-1" strike="noStrike" baseline="-18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/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are normalized to the range [0,255], and n is the number of pixels within the face mask </a:t>
            </a:r>
            <a:r>
              <a:rPr b="0" i="1" lang="en-US" sz="3200" spc="-1" strike="noStrike">
                <a:solidFill>
                  <a:srgbClr val="4d4d4d"/>
                </a:solidFill>
                <a:latin typeface="Times New Roman"/>
                <a:ea typeface="宋体"/>
              </a:rPr>
              <a:t>FG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. The parameter is estimated as a ratio of the average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 baseline="30000">
                <a:solidFill>
                  <a:srgbClr val="4d4d4d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to the average C</a:t>
            </a:r>
            <a:r>
              <a:rPr b="0" lang="en-US" sz="3200" spc="-1" strike="noStrike" baseline="-18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/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Mouth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We Then dilate the mouth map to let it more promi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2733840" cy="2260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28195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Score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If(eye&amp;mou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witch(number_ey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&lt;=one or &gt;three, face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two, face=face_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three, select biggest two, face=face_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ace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_score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ye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ye shape, width vs h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Relative po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inal Face Ident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f fac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Get the center and calculate the fac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raw a green rectang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inal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1734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Imple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Our face detection algorithm can detect multi-faces under different lighting condition and with various environment back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Various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Many new techniques are developed in recent year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宋体"/>
              </a:rPr>
              <a:t>Basic Approach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Neural networ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olor based approa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eature based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uture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1. iterative algorithm to improve detect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2. more complex geometric relation to reject non-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3. optimize code to improve calculation 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ppend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In the YCbCr color space, we regard the chroma (    and    ) as function of the luma (Y):        and        . Let the transformed chroma be         and        . The skin color model is specified by the centers (denoted as        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1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752480" y="2438280"/>
                <a:ext cx="333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90920" y="2438280"/>
                <a:ext cx="331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629400" y="2438280"/>
                <a:ext cx="685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924680" y="24382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791320" y="2819520"/>
                <a:ext cx="6858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010280" y="2743200"/>
                <a:ext cx="331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391520" y="2819520"/>
                <a:ext cx="3045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1080" y="3505320"/>
                <a:ext cx="685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76720" y="3505320"/>
                <a:ext cx="685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523880" y="4267080"/>
                <a:ext cx="5943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ba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i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</m:den>
                              </m:f>
                              <m:r>
                                <m:t xml:space="preserve">+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ba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r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Y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ppend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295280" y="2666880"/>
                <a:ext cx="7621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362320" y="2209680"/>
                <a:ext cx="449568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L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in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L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H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ax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H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</m:e>
                                  </m:d>
                                </m:num>
                                <m:den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ax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33720" y="2743200"/>
                <a:ext cx="152280" cy="1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47920" y="3962520"/>
                <a:ext cx="52578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8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8</m:t>
                                      </m:r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8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8</m:t>
                                      </m:r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ppend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Where     is either    or      ,     =46.97,      =23,       =14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=38.76,        =20,        =10,    =125, and     =18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These parameter values are estimated from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samples of the HHI image database.     and     value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the        color space are 16 and 23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660680" y="2209680"/>
                <a:ext cx="48924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4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44</m:t>
                                      </m:r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4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2</m:t>
                                      </m:r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209680" y="365760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657600" y="3657600"/>
                <a:ext cx="331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419720" y="3657600"/>
                <a:ext cx="457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324480" y="3657600"/>
                <a:ext cx="609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467480" y="3657600"/>
                <a:ext cx="685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71600" y="4038480"/>
                <a:ext cx="533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971800" y="4114800"/>
                <a:ext cx="533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267080" y="4114800"/>
                <a:ext cx="609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10080" y="4114800"/>
                <a:ext cx="333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162920" y="4114800"/>
                <a:ext cx="365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248520" y="4952880"/>
                <a:ext cx="3808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162920" y="4952880"/>
                <a:ext cx="3808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752480" y="5410080"/>
                <a:ext cx="609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76920" y="3657600"/>
                <a:ext cx="457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Rafael C. Gonzalez and Richard E. Woods, digital Image Processing, 2nd Edition, Prentice Hall, Inc. New Jersey,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Rein-Lien Hsu, Mohamed Abdel-Mottaleb and Anil K. Jain, IEEE Transactions on pattern analysis and machine intelligence, Vol24, May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P.T. Jackway and M. Deriche, “scale-space properties of the Multiscale Morphological dilation-erosion,” IEEE Trans. Pattern Analysis and Machine Intelligence, Vol. 18, Jan, 199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Bi-Zhong Chen, Four Approaches to Face Detection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http://www.cs.wisc.deu/~beechung/facedet/report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MATLAB 7.0.4, The Mathworks, 20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Various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Neural Network: Need large quantity of training data to train th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olor based approach: use human skin color properties to achieve the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eature based approach: use human face features (eyes, mouth, nose) to make the detection</a:t>
            </a: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Detec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n this project, we combine the color based and feature based approach to detect upright frontal faces in the presence of varying lighting conditions as well as complex backgrounds</a:t>
            </a: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Detec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wo major ste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olor Segmentation to localize the face candid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acial feature detection for verifying detected face candid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low ch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96880" y="2403360"/>
            <a:ext cx="71438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Y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color space is utilized to eliminate luminance vari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RGB component → Y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r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1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52480" y="4114800"/>
          <a:ext cx="57150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57150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mage in RGB color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mage in Y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r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after trans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3353040" cy="254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76920" y="3333600"/>
            <a:ext cx="3429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0:31:25Z</dcterms:created>
  <dc:creator>labuser</dc:creator>
  <dc:description/>
  <dc:language>en-US</dc:language>
  <cp:lastModifiedBy>Mandy Zhao</cp:lastModifiedBy>
  <dcterms:modified xsi:type="dcterms:W3CDTF">2005-12-06T20:11:37Z</dcterms:modified>
  <cp:revision>45</cp:revision>
  <dc:subject/>
  <dc:title>Slide 1</dc:title>
</cp:coreProperties>
</file>