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8B4-989C-418E-B8FA-2B2D4DEB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3E0-0DD4-48AE-A1C8-9E1414C9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152-4302-45EB-A0B8-ECD72C16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B4B-FB7C-41E8-B087-0978685A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4206-593C-4535-BECD-EA3CC467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E02B-F52F-44B3-A738-ED2EAAE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36B-0E68-4038-8F54-F67152E4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FA3A-B96C-4E49-BA78-1FE35DB4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6B7-FEAA-4DF6-BC39-E42260BB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0138-FAD4-4901-84C9-1511FABB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83A-EED7-47F8-91F3-795DF280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4F4-0764-445A-83CF-7C003EB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AD0A-093B-4182-827D-1E4A586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AE4-DB5F-4479-84C6-0A098FF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8A0C-05FB-48F4-A358-22226BE2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251-951E-4757-8E0F-4040DB6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3167-89CD-4D3F-8C28-D6C598E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3C5-BB00-4141-88A4-0107372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67C-E245-4D68-AC83-3956EFA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FD6-9DDD-431D-A6DC-1E8C25E4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F43-455A-42B6-B266-1481B9F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29F-40E8-4AD1-856B-E2E5997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88A-A816-4BC0-9F32-E8BDE12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51C-01D7-488A-A252-8692E64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F7F-FF80-4170-AB19-A5E7E8A20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BC9-523B-4AEE-B4CB-1C4699E90D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file:///trike.mpeg" TargetMode="External"/><Relationship Id="rId4" Type="http://schemas.openxmlformats.org/officeDocument/2006/relationships/hyperlink" Target="file:///trike.mpeg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swing.mpe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reespace.virgin.net/hugo.elias/graphics/x_motion.htm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cs.ust.hk/~rossiter/mm_projects/video_blur/blur.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cc.gatech.edu/cpl/projects/blur/movies/" TargetMode="External"/><Relationship Id="rId7" Type="http://schemas.openxmlformats.org/officeDocument/2006/relationships/hyperlink" Target="http://www.cc.gatech.edu/cpl/projects/blur/movies/" TargetMode="External"/><Relationship Id="rId8" Type="http://schemas.openxmlformats.org/officeDocument/2006/relationships/hyperlink" Target="http://www.cc.gatech.edu/cpl/projects/blur/movies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file:///motion_blur_past.mpeg" TargetMode="External"/><Relationship Id="rId4" Type="http://schemas.openxmlformats.org/officeDocument/2006/relationships/hyperlink" Target="file:///motion_blur_future.mpe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asketBall.mpeg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on Blu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z Is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Ha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is observed to stay still, and therefore it’s visual quality is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object is observed to be moving, so motion blur is added only to tha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419720" cy="3219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222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5920" y="518148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Chicken Run sample of motion bl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Via Object Tra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7543800" cy="5502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92468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See video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77640" y="12952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Bl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30440" y="39625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Bl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620120" y="182880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620120" y="441972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LAB Blur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tion Blurring function used by MATLAB work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filter, f, by supplying blur length and ang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rFilter = fspecial(‘motion’, length, the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BlurFilter to image, I,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filter(I, BlurFilter, ‘replicat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ussian Blur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943600" cy="3271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05960" y="5105520"/>
            <a:ext cx="51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ussianBlur = fspecial(‘gaussian’, hsize, sig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eraging and Disk Fil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1231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362320" y="4495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kFilter = fspecial(‘disk’, radi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9144000" cy="73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05120" y="3124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ingFilter = fspecial(‘average’, hsiz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Remove blur in pi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your camera to shorter shutter times. This diminishes blur effects on moving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e Filt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ner Filtering (MMSE Filter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ucy-Richard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lind Deconv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age Restoration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514600"/>
            <a:ext cx="152388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2895480"/>
            <a:ext cx="53352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514600"/>
            <a:ext cx="152424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114800" y="365724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29718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819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001000" y="3124080"/>
            <a:ext cx="1143000" cy="596880"/>
            <a:chOff x="8001000" y="3124080"/>
            <a:chExt cx="1143000" cy="596880"/>
          </a:xfrm>
        </p:grpSpPr>
        <p:grpSp>
          <p:nvGrpSpPr>
            <p:cNvPr id="229" name=""/>
            <p:cNvGrpSpPr/>
            <p:nvPr/>
          </p:nvGrpSpPr>
          <p:grpSpPr>
            <a:xfrm>
              <a:off x="8077320" y="3124080"/>
              <a:ext cx="304560" cy="228600"/>
              <a:chOff x="8077320" y="3124080"/>
              <a:chExt cx="304560" cy="228600"/>
            </a:xfrm>
          </p:grpSpPr>
          <p:sp>
            <p:nvSpPr>
              <p:cNvPr id="230" name=""/>
              <p:cNvSpPr/>
              <p:nvPr/>
            </p:nvSpPr>
            <p:spPr>
              <a:xfrm>
                <a:off x="8077320" y="3124080"/>
                <a:ext cx="30456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77320" y="3181320"/>
                <a:ext cx="30456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0099">
                  <a:alpha val="83000"/>
                </a:srgbClr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8001000" y="32004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f(x,y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0384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666880"/>
            <a:ext cx="15238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a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2743200"/>
            <a:ext cx="1524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3341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Quikest and simplest way to restore an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 good estimate of the blurring function is needed for accurate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sumes no noise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imates the transform of the original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5800" y="3429000"/>
                <a:ext cx="7467480" cy="26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,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on Blu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effect we see on both still and video images when a given object is in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omes about when image is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added to an image after it is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removed from an image after it is captu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Quick and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echnique responds badly if corrupted image contains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ified ‘better Inverse filter’ would be the Wiener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inimizes the mean square error in the process of inverse filtering and noise smo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additive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s the blur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a linear estimation of the original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sonable estimate of the degradation function is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667200" y="38653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43000" y="1295280"/>
                <a:ext cx="7162920" cy="521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,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*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t is the optimal tradeoff of inverse filtering and noise smo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 approximation of the blurring function i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iener filter will fail if the blurring filter is singular.  In this case the filter will actually amplify the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 extra step to remove noise is needed, image enhan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Linear Iterative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is not always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o stop the algorithm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&amp; error – observe the output (approximated original image) and stop when it’s accep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s are proportional to the degree of knowledge of the blurring function and additive no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28600" y="1600200"/>
                <a:ext cx="8610480" cy="47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lgorithm may amplify noise after many it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occurs when the signal-to-noise ratio is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convlucy damping parameter DAMPAR to control noise ampl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s to deblur an image without knowing the cause of the bl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[J, PSF] = deconvblind(I,INITPSF, NUMIT, DAMPAR, WEIGHT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= deblurred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 = Restored Point Spread Function (PS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blurred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PSF = Initial PSF gu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IT = Number of It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PAR = threshold deviation of the resulting image from image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 = Assigned to each pixel to reflect its recording quality in the cam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to blind decon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taneously estimate the PSF and the true i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 Deconvolution is an itera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ving Objec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ies more space over some Δt than a still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expo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film takes some Δ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time,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object will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pace o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pace will vary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acity in the imag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bl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freespace.virgin.net/hugo.elias/graphics/x_motio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.ust.hk/~rossiter/mm_projects/video_blur/blu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cc.gatech.edu/cpl/projects/blur/movies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alez, Rafael C.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Image Processing using Matlab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rson Education INC. 2004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alez, Rafael C. , Woods, Richard E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Image Processing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dition.  Prentice Hall 2002 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alp, A.Murat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Video Process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ntice Hall Inc. 1995 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ng Motion Blur Can Be Done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imilar process as “anti-aliasing” via “super sampl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had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pas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futu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racking a moving object frame-to-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876920" y="3276720"/>
            <a:ext cx="2590560" cy="191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819520" y="1981080"/>
            <a:ext cx="1981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othes the edges of an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-Samp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an image at a far greater resolution than needed (say, 200x200 when only 50x50 is nee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s it into regions (50x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each 4x4 blo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verag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zes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019920" y="2666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80988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066680" y="55627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oral Anti-ali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s many times more frames per second than needed (say, 4 ti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s each of 4 frame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every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ame which now has motion bl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1333800" cy="3467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419720" y="339084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858000" y="228600"/>
            <a:ext cx="1717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 of Supersampling to Create Motion Bl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4880" y="64911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Falling Bask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1:25:25Z</dcterms:created>
  <dc:creator>HAURYWJ</dc:creator>
  <dc:description/>
  <dc:language>en-US</dc:language>
  <cp:lastModifiedBy>IslasEL</cp:lastModifiedBy>
  <dcterms:modified xsi:type="dcterms:W3CDTF">2005-12-07T22:28:04Z</dcterms:modified>
  <cp:revision>28</cp:revision>
  <dc:subject/>
  <dc:title>Motion Blur</dc:title>
</cp:coreProperties>
</file>